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342-84B1-421F-8E50-52A2456D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8AE-882B-45BE-BEAC-5BDC74DF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4D84-FE91-4198-A4CA-2F58C490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28D5-B07D-46E1-8707-FFB2FEA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701F1-03FB-4406-AD02-8E472DF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901BC-17D6-4736-9A05-BA259F3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30428-FF14-43FA-AA20-518A934B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15D9-3B76-4EF5-92E5-7EB63E5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B776B-4DC7-47D6-995B-F38E94EA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DECC-87E9-4317-BB72-F16D7206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56D1C-5F8B-460C-B196-6EE21150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74A27-6953-4621-B0F9-DEAFCADF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C61-A7A2-4CE5-9E3A-FAA0BE25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7938C-108B-4FFD-8A28-497C7A1C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72DE8-ACB4-4447-A3BE-8BE909A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D736C-636D-4C10-8D66-96E3CFF9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08BB8-D30D-4B98-9F35-90D84CB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2A91D-ED5F-4918-945A-9852D09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C793A-6EB2-4D91-A923-5AAF73F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B870A-4F1B-4F63-B17A-044934C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DF3BA-AA0D-48AD-A07F-BC84DE1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B139B-0B96-4B3F-87DE-98BC353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DD5E-A7F7-4260-9F2A-6ABD20BE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4BE-F3BB-4228-A307-BE4112F6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2B6D5-4004-42AB-B7BF-FCED6DC4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B0D31-0E92-4489-8BF5-762449A0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65B14-E1D1-4906-A28D-E9EA6D6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4652E-C043-46C7-9E60-682182AA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0FA0C-ED88-46CE-83A5-F418B4F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3ED0-0F6A-447A-9971-4CE4B87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C8075-2CC4-4DDF-8A0A-D074552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257C-45F9-44C9-90BA-55E6C34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91FE-6176-4875-A403-83D14F2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95314-F2F7-4632-A549-20C31ED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A601-26DF-4CFB-AF15-2AFAE9B1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81D5-D928-4E62-A221-BEFE558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68EA-E8E7-430F-B7C9-C4711060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24F09-BE83-475C-89D8-CE5BAF63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143-192F-46D0-8B43-DFC74548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EE22-5907-4359-9BA5-DCBD2AF2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E217-8D39-4EFF-96C7-A68AD0A1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1737-C8A8-42F0-A9D5-1945789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0A5-9FD4-4D1E-B032-E225E543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768C-B659-4F4C-84B9-FB26E6F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E43-25C8-4A0B-B0BD-E10672C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7270-2EAA-431E-86FD-D0EA79A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5B7-457A-4ABF-B085-606811B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FDC3-BD94-45EF-A79D-16BBBFEC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20A-5DBA-47D1-B1DE-DC16EF0A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03C8-EDDD-4A70-9E15-18DE5776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21C9-7B72-4682-A443-965F607B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464F-0ECA-4308-988F-1A94C9A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1073-3EAF-442A-9BBC-0559A0DC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81CF-4CC1-411A-AB48-EB2D78D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2CEE-5B37-443A-BA6A-9D4B287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68A-9058-4AD5-A72C-37A9E1E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29F9-7DA9-45D5-BF0F-5A412F22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C9C7-7D7E-4CF3-BB98-0480A89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99B9-FF1E-4612-828C-4993200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1386-5760-4893-B145-B1A188E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E3AB-A809-496B-B5D6-3473E5F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9C47-F9AA-435A-9DEF-92C98B60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C3E7-0798-4003-A9D3-42D79057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5456-C810-42E4-B10A-252CC5B9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2D6C-ADFF-429C-9930-FF85C60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6DD0-14EA-403E-B7B9-AA6DD5C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732-9228-45E9-8E4A-593C6FE4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78EF-A1B2-4571-8CA2-14C23757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94FB-7F3B-4E7C-A57E-3C43A08B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76D0-EFE1-44D4-8353-F84E36F4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36CE-8833-426F-B369-6971F57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287D-6F4C-4FF8-A099-F51B3A1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09A5-F2C6-4FE0-BA1F-2CB6FAA5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1611-CA1C-40C0-9D24-841B53A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DD61-7D8C-41CD-B650-22697BF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1780-AA8E-4579-BAED-FA0F6BD5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1A83-4D6C-4EEA-92F1-39EFA94A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684-5005-4F54-AF77-1ED3042E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0CEE-FE21-46A0-8C5C-3BF3EA0A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967F-53FB-4405-ADED-3FB03D7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97BE-5DE8-4B95-B707-AB3B810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C734-B63D-4628-8319-03140E4D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286AF-A32A-4CF5-AF08-9C404CDB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700E-07B9-4069-8489-527D9FF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05AC-40FE-4E58-8337-DAADC87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170B-656E-4C86-9B21-9088D16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4B5D-0074-4426-A45B-0D2C8C9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FF74-87B9-44B7-A838-DC248144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736-5DEE-46B5-B94C-6AA322A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0AF8-8B9C-4105-BCAF-24BF9215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7A24B-B128-460A-8863-CCC3D05E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4283-2D25-485E-A19F-1761EDEA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879F-4AAC-4157-87C0-FCB1F5CF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9DC4-89CF-4DE6-B22D-0E5B99E8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A030-F517-443A-8C37-17FB418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BA75-A9A3-4043-92E9-E256444D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6CBA-6DC9-44F0-9E5D-A07884EB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E655-6AD4-48B1-8743-10CC9024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0BA4-CF75-4A10-A8F7-6CD8A5B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31C-4AF5-4644-AD10-CB45DBA8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E8E8-5875-4667-8DA6-587464C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097C-A64B-44D1-9738-6A8D3B7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FB9B-3B73-46B9-B4BB-98B116C3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5CA8-3F5C-4886-87F7-461097C7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7F79-9515-414E-B3C8-CAD4340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52EA-665F-457A-AE00-9283F2B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ADEB-EA2F-400C-B816-72EDA46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852D-CB4F-41C1-B039-B4EBA10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45229-782C-4ED0-B00E-539C66BF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B1816-7E8C-4868-9CA5-1769D63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16E-5D05-452C-A16F-2DC5757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79A6-610D-48D7-A827-DEB046D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1925-007D-41D7-8B3D-0159885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F3B32-D944-4E04-BB4E-2611D93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0DD88-00E9-411D-BDB3-E92F1E9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B9F8-624D-4128-B90B-E6794A44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58CA-B77C-4B8F-9FF1-C02C87E5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39CC6-9CDD-45A1-9322-9C157359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8844-D0E8-43A7-B210-2340ED9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C7EB-9BBF-4110-88E2-0DEAB8E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9267E-D7BB-4CD9-9681-32FDF72C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E5E-E6F3-49B3-8C9C-1D735E3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3B02-3769-4DB9-93EF-573C2A3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7AA29-CB05-4734-A274-49C306E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ED4B8-0E63-450C-B4F2-1877CF4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AE7F6-6207-42E2-9EBB-D627394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DB9D-0531-450F-A86E-DCE1C0A0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863D-67E4-4B1B-827A-32955144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5093-8E4B-45DB-B472-3CBA3F7D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F9155-137D-4725-B118-14D29AFB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07A86-CAE9-4097-B9C9-6BA1B6C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FB6FB-ED6C-481F-B759-A2A72BF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D82D-7322-40E5-B3B4-61272279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FCF-AD2E-4D54-B13B-43795350A20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19A-2C8B-474E-97A1-8B5FA4E25AC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FA2-B482-47E9-ABB4-1E5C5876B7D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894-3D3A-40E4-B3C2-FBAC2D87AF6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3C8-BB1E-4015-96F9-266C1E1FF94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4140-B7AB-4FBD-AB98-0CA2EBF1610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E80-4274-46A3-875F-8B888D27577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78B0-B17C-4BFC-A17E-2E8DA3FA06A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FC2-BE17-497E-90E3-FEB34C61BF5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45E4-54D7-488F-BB6E-67AEB1D9C4D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smas.org/rot-plasmas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alatino Linotype"/>
              </a:rPr>
              <a:t>T01D02 – SL/HL Chem 1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Palatino Linotype"/>
              </a:rPr>
              <a:t>Today we go back </a:t>
            </a:r>
            <a:r>
              <a:rPr b="1" lang="en-US" sz="5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pic>
        <p:nvPicPr>
          <p:cNvPr id="483" name="Picture 1" descr=""/>
          <p:cNvPicPr/>
          <p:nvPr/>
        </p:nvPicPr>
        <p:blipFill>
          <a:blip r:embed="rId1"/>
          <a:stretch/>
        </p:blipFill>
        <p:spPr>
          <a:xfrm>
            <a:off x="1182600" y="1494000"/>
            <a:ext cx="65660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1676520" y="228600"/>
            <a:ext cx="2286000" cy="685800"/>
          </a:xfrm>
          <a:prstGeom prst="rect">
            <a:avLst/>
          </a:prstGeom>
          <a:solidFill>
            <a:srgbClr val="d26900"/>
          </a:solidFill>
          <a:ln w="9360">
            <a:solidFill>
              <a:srgbClr val="d2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Elements</a:t>
            </a:r>
            <a:r>
              <a:rPr b="0" lang="en-US" sz="4000" spc="-1" strike="noStrike">
                <a:solidFill>
                  <a:srgbClr val="303030"/>
                </a:solidFill>
                <a:latin typeface="Palatino Linotype"/>
              </a:rPr>
              <a:t> vs. Compound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00" y="939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Element: substance that </a:t>
            </a:r>
            <a:r>
              <a:rPr b="0" i="1" lang="en-US" sz="3200" spc="-1" strike="noStrike">
                <a:solidFill>
                  <a:srgbClr val="313b44"/>
                </a:solidFill>
                <a:latin typeface="Palatino Linotype"/>
              </a:rPr>
              <a:t>cannot</a:t>
            </a: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 be separated into simpler substances by </a:t>
            </a:r>
            <a:r>
              <a:rPr b="0" i="1" lang="en-US" sz="3200" spc="-1" strike="noStrike">
                <a:solidFill>
                  <a:srgbClr val="313b44"/>
                </a:solidFill>
                <a:latin typeface="Palatino Linotype"/>
              </a:rPr>
              <a:t>chemical</a:t>
            </a: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 means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First letter is always capitalized, second is lower case. (ie, Cobalt, Co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Most elements named using English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C (Carbon), Br (Bromine), Ne (Neon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Some named after Latin route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Au (Aurum – Gold), Fe (Ferrum – Iron), Na (Natrium – Sodium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550" name="Object 6"/>
          <p:cNvGraphicFramePr/>
          <p:nvPr/>
        </p:nvGraphicFramePr>
        <p:xfrm>
          <a:off x="1371600" y="5486400"/>
          <a:ext cx="1585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486400"/>
                    <a:ext cx="1585800" cy="1371600"/>
                  </a:xfrm>
                  <a:prstGeom prst="rect">
                    <a:avLst/>
                  </a:prstGeom>
                  <a:ln cap="sq" w="28440">
                    <a:solidFill>
                      <a:srgbClr val="dedee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8"/>
          <p:cNvGraphicFramePr/>
          <p:nvPr/>
        </p:nvGraphicFramePr>
        <p:xfrm>
          <a:off x="5334120" y="5257800"/>
          <a:ext cx="32004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257800"/>
                    <a:ext cx="3200400" cy="1428840"/>
                  </a:xfrm>
                  <a:prstGeom prst="rect">
                    <a:avLst/>
                  </a:prstGeom>
                  <a:ln cap="sq" w="28440">
                    <a:solidFill>
                      <a:srgbClr val="dedee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4724280" y="76320"/>
            <a:ext cx="3533760" cy="83808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81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Elements vs.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Palatino Linotype"/>
              </a:rPr>
              <a:t>Compounds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mpound: a substance composed of two or more elements chemically united in fixed proportion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 – water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NaCl – table salt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Unlike mixtures, compounds can be separated only by chemical means into their pure substance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57" name="Picture 4" descr="salt"/>
          <p:cNvPicPr/>
          <p:nvPr/>
        </p:nvPicPr>
        <p:blipFill>
          <a:blip r:embed="rId1"/>
          <a:stretch/>
        </p:blipFill>
        <p:spPr>
          <a:xfrm>
            <a:off x="7372440" y="2057400"/>
            <a:ext cx="17715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609480" y="304920"/>
            <a:ext cx="3353040" cy="609480"/>
          </a:xfrm>
          <a:prstGeom prst="rect">
            <a:avLst/>
          </a:prstGeom>
          <a:solidFill>
            <a:srgbClr val="002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-114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 Linotype"/>
              </a:rPr>
              <a:t>Homogeneous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 vs. Heterogeneous </a:t>
            </a:r>
            <a:endParaRPr b="0" lang="en-US" sz="36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composition of the mixture is the same throughout the mixtur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llect any two parts and they will have the same compositio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alt wat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i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pple Jui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4724280" y="228600"/>
            <a:ext cx="3733920" cy="6858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Palatino Linotype"/>
              </a:rPr>
              <a:t>Homogeneous vs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Heterogeneous 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composition of the mixture is NOT uniform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arts may be dissimilar, often visuall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and and iron filing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il and wat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paghetti Sau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range Juice w/ Pul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Matter Flow Chart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503520" y="1090440"/>
            <a:ext cx="2151000" cy="609840"/>
          </a:xfrm>
          <a:prstGeom prst="rect">
            <a:avLst/>
          </a:prstGeom>
          <a:solidFill>
            <a:srgbClr val="ffe67d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ad0101"/>
                </a:solidFill>
                <a:latin typeface="Palatino Linotype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>
            <a:hlinkClick r:id="rId1" action="ppaction://hlinksldjump"/>
          </p:cNvPr>
          <p:cNvSpPr/>
          <p:nvPr/>
        </p:nvSpPr>
        <p:spPr>
          <a:xfrm>
            <a:off x="3340080" y="2048040"/>
            <a:ext cx="2489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ad0101"/>
                </a:solidFill>
                <a:latin typeface="Times New Roman"/>
              </a:rPr>
              <a:t>Can it be physically separa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4584600" y="1700280"/>
            <a:ext cx="0" cy="37296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68120" y="4519440"/>
            <a:ext cx="2114640" cy="995400"/>
          </a:xfrm>
          <a:prstGeom prst="rect">
            <a:avLst/>
          </a:prstGeom>
          <a:solidFill>
            <a:srgbClr val="00206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om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408400" y="4519440"/>
            <a:ext cx="2114280" cy="995400"/>
          </a:xfrm>
          <a:prstGeom prst="rect">
            <a:avLst/>
          </a:prstGeom>
          <a:solidFill>
            <a:srgbClr val="ad0101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eter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646520" y="4519440"/>
            <a:ext cx="2114640" cy="995400"/>
          </a:xfrm>
          <a:prstGeom prst="rect">
            <a:avLst/>
          </a:prstGeom>
          <a:solidFill>
            <a:srgbClr val="0066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6886440" y="4519440"/>
            <a:ext cx="2114640" cy="995400"/>
          </a:xfrm>
          <a:prstGeom prst="rect">
            <a:avLst/>
          </a:prstGeom>
          <a:solidFill>
            <a:srgbClr val="cc33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11"/>
          <p:cNvGrpSpPr/>
          <p:nvPr/>
        </p:nvGrpSpPr>
        <p:grpSpPr>
          <a:xfrm>
            <a:off x="1069920" y="2793960"/>
            <a:ext cx="2550960" cy="870120"/>
            <a:chOff x="1069920" y="2793960"/>
            <a:chExt cx="2550960" cy="870120"/>
          </a:xfrm>
        </p:grpSpPr>
        <p:sp>
          <p:nvSpPr>
            <p:cNvPr id="573" name="Text Box 12"/>
            <p:cNvSpPr/>
            <p:nvPr/>
          </p:nvSpPr>
          <p:spPr>
            <a:xfrm>
              <a:off x="1069920" y="2793960"/>
              <a:ext cx="255096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MIX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3"/>
            <p:cNvSpPr/>
            <p:nvPr/>
          </p:nvSpPr>
          <p:spPr>
            <a:xfrm>
              <a:off x="234468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14"/>
          <p:cNvGrpSpPr/>
          <p:nvPr/>
        </p:nvGrpSpPr>
        <p:grpSpPr>
          <a:xfrm>
            <a:off x="5248440" y="2793960"/>
            <a:ext cx="3120480" cy="870120"/>
            <a:chOff x="5248440" y="2793960"/>
            <a:chExt cx="3120480" cy="870120"/>
          </a:xfrm>
        </p:grpSpPr>
        <p:sp>
          <p:nvSpPr>
            <p:cNvPr id="576" name="Text Box 15"/>
            <p:cNvSpPr/>
            <p:nvPr/>
          </p:nvSpPr>
          <p:spPr>
            <a:xfrm>
              <a:off x="5248440" y="2793960"/>
              <a:ext cx="312048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PURE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6"/>
            <p:cNvSpPr/>
            <p:nvPr/>
          </p:nvSpPr>
          <p:spPr>
            <a:xfrm>
              <a:off x="682236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17"/>
          <p:cNvSpPr/>
          <p:nvPr/>
        </p:nvSpPr>
        <p:spPr>
          <a:xfrm>
            <a:off x="23432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2343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"/>
          <p:cNvSpPr/>
          <p:nvPr/>
        </p:nvSpPr>
        <p:spPr>
          <a:xfrm>
            <a:off x="68216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5826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228276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638820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3"/>
          <p:cNvGrpSpPr/>
          <p:nvPr/>
        </p:nvGrpSpPr>
        <p:grpSpPr>
          <a:xfrm>
            <a:off x="4641840" y="3711600"/>
            <a:ext cx="4333680" cy="782640"/>
            <a:chOff x="4641840" y="3711600"/>
            <a:chExt cx="4333680" cy="782640"/>
          </a:xfrm>
        </p:grpSpPr>
        <p:sp>
          <p:nvSpPr>
            <p:cNvPr id="585" name="Line 24"/>
            <p:cNvSpPr/>
            <p:nvPr/>
          </p:nvSpPr>
          <p:spPr>
            <a:xfrm>
              <a:off x="5403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8265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26"/>
            <p:cNvSpPr/>
            <p:nvPr/>
          </p:nvSpPr>
          <p:spPr>
            <a:xfrm>
              <a:off x="5591160" y="3748320"/>
              <a:ext cx="24876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Can it be chemically decompo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7"/>
            <p:cNvSpPr/>
            <p:nvPr/>
          </p:nvSpPr>
          <p:spPr>
            <a:xfrm>
              <a:off x="540396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8"/>
            <p:cNvSpPr/>
            <p:nvPr/>
          </p:nvSpPr>
          <p:spPr>
            <a:xfrm>
              <a:off x="801684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29"/>
            <p:cNvSpPr/>
            <p:nvPr/>
          </p:nvSpPr>
          <p:spPr>
            <a:xfrm>
              <a:off x="8353440" y="3711600"/>
              <a:ext cx="6220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0"/>
            <p:cNvSpPr/>
            <p:nvPr/>
          </p:nvSpPr>
          <p:spPr>
            <a:xfrm>
              <a:off x="4641840" y="3711600"/>
              <a:ext cx="871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31"/>
          <p:cNvGrpSpPr/>
          <p:nvPr/>
        </p:nvGrpSpPr>
        <p:grpSpPr>
          <a:xfrm>
            <a:off x="147600" y="3675240"/>
            <a:ext cx="4269960" cy="782640"/>
            <a:chOff x="147600" y="3675240"/>
            <a:chExt cx="4269960" cy="782640"/>
          </a:xfrm>
        </p:grpSpPr>
        <p:sp>
          <p:nvSpPr>
            <p:cNvPr id="593" name="Line 32"/>
            <p:cNvSpPr/>
            <p:nvPr/>
          </p:nvSpPr>
          <p:spPr>
            <a:xfrm>
              <a:off x="374472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33"/>
            <p:cNvSpPr/>
            <p:nvPr/>
          </p:nvSpPr>
          <p:spPr>
            <a:xfrm>
              <a:off x="88380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4"/>
            <p:cNvSpPr/>
            <p:nvPr/>
          </p:nvSpPr>
          <p:spPr>
            <a:xfrm>
              <a:off x="1256400" y="3711960"/>
              <a:ext cx="21153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Is the composition unifor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35"/>
            <p:cNvSpPr/>
            <p:nvPr/>
          </p:nvSpPr>
          <p:spPr>
            <a:xfrm>
              <a:off x="88380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36"/>
            <p:cNvSpPr/>
            <p:nvPr/>
          </p:nvSpPr>
          <p:spPr>
            <a:xfrm>
              <a:off x="337176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37"/>
            <p:cNvSpPr/>
            <p:nvPr/>
          </p:nvSpPr>
          <p:spPr>
            <a:xfrm>
              <a:off x="3806640" y="3675240"/>
              <a:ext cx="6109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38"/>
            <p:cNvSpPr/>
            <p:nvPr/>
          </p:nvSpPr>
          <p:spPr>
            <a:xfrm>
              <a:off x="147600" y="3675240"/>
              <a:ext cx="871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39"/>
          <p:cNvGrpSpPr/>
          <p:nvPr/>
        </p:nvGrpSpPr>
        <p:grpSpPr>
          <a:xfrm>
            <a:off x="998640" y="5543640"/>
            <a:ext cx="4933440" cy="592200"/>
            <a:chOff x="998640" y="5543640"/>
            <a:chExt cx="4933440" cy="592200"/>
          </a:xfrm>
        </p:grpSpPr>
        <p:grpSp>
          <p:nvGrpSpPr>
            <p:cNvPr id="601" name="Group 40"/>
            <p:cNvGrpSpPr/>
            <p:nvPr/>
          </p:nvGrpSpPr>
          <p:grpSpPr>
            <a:xfrm>
              <a:off x="3138480" y="5543640"/>
              <a:ext cx="651960" cy="390240"/>
              <a:chOff x="3138480" y="5543640"/>
              <a:chExt cx="651960" cy="390240"/>
            </a:xfrm>
          </p:grpSpPr>
          <p:sp>
            <p:nvSpPr>
              <p:cNvPr id="602" name="Line 41"/>
              <p:cNvSpPr/>
              <p:nvPr/>
            </p:nvSpPr>
            <p:spPr>
              <a:xfrm>
                <a:off x="3138480" y="5933880"/>
                <a:ext cx="651960" cy="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42"/>
              <p:cNvSpPr/>
              <p:nvPr/>
            </p:nvSpPr>
            <p:spPr>
              <a:xfrm flipV="1">
                <a:off x="3465000" y="5543640"/>
                <a:ext cx="0" cy="39024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Text Box 43"/>
            <p:cNvSpPr/>
            <p:nvPr/>
          </p:nvSpPr>
          <p:spPr>
            <a:xfrm>
              <a:off x="99864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Coll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44"/>
            <p:cNvSpPr/>
            <p:nvPr/>
          </p:nvSpPr>
          <p:spPr>
            <a:xfrm>
              <a:off x="381780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Susp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AutoShape 45">
            <a:hlinkClick r:id="rId2" action="ppaction://hlinksldjump"/>
          </p:cNvPr>
          <p:cNvSpPr/>
          <p:nvPr/>
        </p:nvSpPr>
        <p:spPr>
          <a:xfrm>
            <a:off x="5792760" y="3621240"/>
            <a:ext cx="2100240" cy="639720"/>
          </a:xfrm>
          <a:custGeom>
            <a:avLst/>
            <a:gdLst>
              <a:gd name="textAreaLeft" fmla="*/ 41400 w 2100240"/>
              <a:gd name="textAreaRight" fmla="*/ 2058840 w 21002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70886" h="21600">
                <a:moveTo>
                  <a:pt x="0" y="0"/>
                </a:moveTo>
                <a:lnTo>
                  <a:pt x="70886" y="0"/>
                </a:lnTo>
                <a:lnTo>
                  <a:pt x="70886" y="21600"/>
                </a:lnTo>
                <a:lnTo>
                  <a:pt x="0" y="21600"/>
                </a:lnTo>
                <a:close/>
              </a:path>
              <a:path fill="lightenLess" w="70886" h="21600">
                <a:moveTo>
                  <a:pt x="0" y="0"/>
                </a:moveTo>
                <a:lnTo>
                  <a:pt x="70886" y="0"/>
                </a:lnTo>
                <a:lnTo>
                  <a:pt x="69486" y="1400"/>
                </a:lnTo>
                <a:lnTo>
                  <a:pt x="1400" y="1400"/>
                </a:lnTo>
                <a:close/>
              </a:path>
              <a:path fill="darken" w="70886" h="21600">
                <a:moveTo>
                  <a:pt x="70886" y="0"/>
                </a:moveTo>
                <a:lnTo>
                  <a:pt x="70886" y="21600"/>
                </a:lnTo>
                <a:lnTo>
                  <a:pt x="69486" y="20200"/>
                </a:lnTo>
                <a:lnTo>
                  <a:pt x="69486" y="1400"/>
                </a:lnTo>
                <a:close/>
              </a:path>
              <a:path fill="darkenLess" w="70886" h="21600">
                <a:moveTo>
                  <a:pt x="7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86" y="20200"/>
                </a:lnTo>
                <a:close/>
              </a:path>
              <a:path fill="lighten" w="7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Palatino Linotype"/>
              </a:rPr>
              <a:t>Physical</a:t>
            </a: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</a:t>
            </a:r>
            <a:br>
              <a:rPr sz="4000"/>
            </a:br>
            <a:r>
              <a:rPr b="0" lang="en-US" sz="4000" spc="-1" strike="noStrike">
                <a:solidFill>
                  <a:srgbClr val="21272e"/>
                </a:solidFill>
                <a:latin typeface="Palatino Linotype"/>
              </a:rPr>
              <a:t>Propertie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4240" y="1401840"/>
            <a:ext cx="8759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are identified by their properties as well as by their composition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Palatino Linotype"/>
              </a:rPr>
              <a:t>Physical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an be observed without changing the identity of the substanc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describes the ability of a substance to undergo changes in identi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Palatino Linotype"/>
              </a:rPr>
              <a:t>Physical</a:t>
            </a: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</a:t>
            </a:r>
            <a:r>
              <a:rPr b="0" lang="en-US" sz="4000" spc="-1" strike="noStrike">
                <a:solidFill>
                  <a:srgbClr val="ff9900"/>
                </a:solidFill>
                <a:latin typeface="Palatino Linotyp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1272e"/>
                </a:solidFill>
                <a:latin typeface="Palatino Linotype"/>
              </a:rPr>
              <a:t>Change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Palatino Linotype"/>
              </a:rPr>
              <a:t>Physical Chang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hanges the form of a substance without changing its identi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roperties remain the sam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45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Chang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hanges the identity of a substanc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roducts have different properti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Palatino Linotype"/>
              </a:rPr>
              <a:t>Chemical Changes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igns of a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Chang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hange in color or odo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mation of a g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mation of a precipitate (solid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hange in light or he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Palatino Linotype"/>
              </a:rPr>
              <a:t>Extensive</a:t>
            </a:r>
            <a:r>
              <a:rPr b="0" lang="en-US" sz="54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5400" spc="-1" strike="noStrike" u="sng">
                <a:solidFill>
                  <a:srgbClr val="820101"/>
                </a:solidFill>
                <a:uFillTx/>
                <a:latin typeface="Palatino Linotype"/>
              </a:rPr>
              <a:t>Intensive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Palatino Linotype"/>
              </a:rPr>
              <a:t>Extensive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pends on the amount of matter prese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82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20101"/>
                </a:solidFill>
                <a:uFillTx/>
                <a:latin typeface="Palatino Linotype"/>
              </a:rPr>
              <a:t>Intensive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pends on the identity of substance, not the amou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Physical and Chemical Changes Lab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ach person works alon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You may discuss together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You will each get a different “practice write up assignment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focus is format, not resul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Classification of Matter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Matter – anything that has mass and takes up space. Anything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hemistry – the study of matter and the changes it undergoe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All matter can exist in three (3) states: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olid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Liquid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Gas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 u="sng">
                <a:solidFill>
                  <a:srgbClr val="d26900"/>
                </a:solidFill>
                <a:uFillTx/>
                <a:latin typeface="Palatino Linotype"/>
                <a:hlinkClick r:id="rId1"/>
              </a:rPr>
              <a:t>Plasma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6" name="Picture 5" descr="states"/>
          <p:cNvPicPr/>
          <p:nvPr/>
        </p:nvPicPr>
        <p:blipFill>
          <a:blip r:embed="rId2"/>
          <a:stretch/>
        </p:blipFill>
        <p:spPr>
          <a:xfrm>
            <a:off x="3581280" y="4267080"/>
            <a:ext cx="5292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Forces and Phases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very little intermolecular attraction exist as gases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strong intermolecular attraction exist as liquids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</a:t>
            </a:r>
            <a:r>
              <a:rPr b="0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very strong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ntermolecular (or ionic) attraction exist as solid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"/>
          <p:cNvSpPr/>
          <p:nvPr/>
        </p:nvSpPr>
        <p:spPr>
          <a:xfrm>
            <a:off x="0" y="481644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Solid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definite volume and shape; particles packed in fixed positions; particles are not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0" y="24382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Liquid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definite volume but indefinite shape; particles close together but not in fixed positions; particles are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0" y="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Ga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neither definite volume nor definite shape; particles are at great distances from one another; particles are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9" descr=""/>
          <p:cNvPicPr/>
          <p:nvPr/>
        </p:nvPicPr>
        <p:blipFill>
          <a:blip r:embed="rId1"/>
          <a:stretch/>
        </p:blipFill>
        <p:spPr>
          <a:xfrm>
            <a:off x="5526000" y="0"/>
            <a:ext cx="36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Palatino Linotype"/>
              </a:rPr>
              <a:t>Physical Properties of Gases 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14479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Highly compre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Low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Fill container comple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Assume shape of cont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Rapid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High expansion on he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6464160" y="2209680"/>
            <a:ext cx="2057400" cy="315756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Palatino Linotype"/>
              </a:rPr>
              <a:t>Physical Properties of Liquids</a:t>
            </a:r>
            <a:endParaRPr b="0" lang="en-US" sz="4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ightly compre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High d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Definite volume, does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  <a:ea typeface="Arial"/>
              </a:rPr>
              <a:t>expand to fill contai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Assumes shape of contai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ow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Low expansion on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14028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Palatino Linotype"/>
              </a:rPr>
              <a:t>Physical Properties of Solids</a:t>
            </a:r>
            <a:endParaRPr b="0" lang="en-US" sz="4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ightly compre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High d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Rigidly retains its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Retains its own sh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Extremely slow diffusion; occurs only at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Low expansion on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2306520" cy="353376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Matter Flow Chart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3503520" y="1090440"/>
            <a:ext cx="2151000" cy="609840"/>
          </a:xfrm>
          <a:prstGeom prst="rect">
            <a:avLst/>
          </a:prstGeom>
          <a:solidFill>
            <a:srgbClr val="ffe67d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ad0101"/>
                </a:solidFill>
                <a:latin typeface="Palatino Linotype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>
            <a:hlinkClick r:id="rId1" action="ppaction://hlinksldjump"/>
          </p:cNvPr>
          <p:cNvSpPr/>
          <p:nvPr/>
        </p:nvSpPr>
        <p:spPr>
          <a:xfrm>
            <a:off x="3340080" y="2048040"/>
            <a:ext cx="2489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ad0101"/>
                </a:solidFill>
                <a:latin typeface="Times New Roman"/>
              </a:rPr>
              <a:t>Can it be physically separa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4584600" y="1700280"/>
            <a:ext cx="0" cy="37296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68120" y="4519440"/>
            <a:ext cx="2114640" cy="995400"/>
          </a:xfrm>
          <a:prstGeom prst="rect">
            <a:avLst/>
          </a:prstGeom>
          <a:solidFill>
            <a:srgbClr val="00206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om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2408400" y="4519440"/>
            <a:ext cx="2114280" cy="995400"/>
          </a:xfrm>
          <a:prstGeom prst="rect">
            <a:avLst/>
          </a:prstGeom>
          <a:solidFill>
            <a:srgbClr val="ad0101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eter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4646520" y="4519440"/>
            <a:ext cx="2114640" cy="995400"/>
          </a:xfrm>
          <a:prstGeom prst="rect">
            <a:avLst/>
          </a:prstGeom>
          <a:solidFill>
            <a:srgbClr val="0066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6886440" y="4519440"/>
            <a:ext cx="2114640" cy="995400"/>
          </a:xfrm>
          <a:prstGeom prst="rect">
            <a:avLst/>
          </a:prstGeom>
          <a:solidFill>
            <a:srgbClr val="cc33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1069920" y="2793960"/>
            <a:ext cx="2550960" cy="870120"/>
            <a:chOff x="1069920" y="2793960"/>
            <a:chExt cx="2550960" cy="870120"/>
          </a:xfrm>
        </p:grpSpPr>
        <p:sp>
          <p:nvSpPr>
            <p:cNvPr id="511" name="Text Box 12"/>
            <p:cNvSpPr/>
            <p:nvPr/>
          </p:nvSpPr>
          <p:spPr>
            <a:xfrm>
              <a:off x="1069920" y="2793960"/>
              <a:ext cx="255096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MIX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>
              <a:off x="234468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5248440" y="2793960"/>
            <a:ext cx="3120480" cy="870120"/>
            <a:chOff x="5248440" y="2793960"/>
            <a:chExt cx="3120480" cy="870120"/>
          </a:xfrm>
        </p:grpSpPr>
        <p:sp>
          <p:nvSpPr>
            <p:cNvPr id="514" name="Text Box 15"/>
            <p:cNvSpPr/>
            <p:nvPr/>
          </p:nvSpPr>
          <p:spPr>
            <a:xfrm>
              <a:off x="5248440" y="2793960"/>
              <a:ext cx="312048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PURE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6"/>
            <p:cNvSpPr/>
            <p:nvPr/>
          </p:nvSpPr>
          <p:spPr>
            <a:xfrm>
              <a:off x="682236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Line 17"/>
          <p:cNvSpPr/>
          <p:nvPr/>
        </p:nvSpPr>
        <p:spPr>
          <a:xfrm>
            <a:off x="23432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343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68216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5826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228276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638820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4641840" y="3711600"/>
            <a:ext cx="4333680" cy="782640"/>
            <a:chOff x="4641840" y="3711600"/>
            <a:chExt cx="4333680" cy="782640"/>
          </a:xfrm>
        </p:grpSpPr>
        <p:sp>
          <p:nvSpPr>
            <p:cNvPr id="523" name="Line 24"/>
            <p:cNvSpPr/>
            <p:nvPr/>
          </p:nvSpPr>
          <p:spPr>
            <a:xfrm>
              <a:off x="5403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5"/>
            <p:cNvSpPr/>
            <p:nvPr/>
          </p:nvSpPr>
          <p:spPr>
            <a:xfrm>
              <a:off x="8265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6"/>
            <p:cNvSpPr/>
            <p:nvPr/>
          </p:nvSpPr>
          <p:spPr>
            <a:xfrm>
              <a:off x="5591160" y="3748320"/>
              <a:ext cx="24876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Can it be chemically decompo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27"/>
            <p:cNvSpPr/>
            <p:nvPr/>
          </p:nvSpPr>
          <p:spPr>
            <a:xfrm>
              <a:off x="540396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28"/>
            <p:cNvSpPr/>
            <p:nvPr/>
          </p:nvSpPr>
          <p:spPr>
            <a:xfrm>
              <a:off x="801684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9"/>
            <p:cNvSpPr/>
            <p:nvPr/>
          </p:nvSpPr>
          <p:spPr>
            <a:xfrm>
              <a:off x="8353440" y="3711600"/>
              <a:ext cx="6220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4641840" y="3711600"/>
              <a:ext cx="871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31"/>
          <p:cNvGrpSpPr/>
          <p:nvPr/>
        </p:nvGrpSpPr>
        <p:grpSpPr>
          <a:xfrm>
            <a:off x="147600" y="3675240"/>
            <a:ext cx="4269960" cy="782640"/>
            <a:chOff x="147600" y="3675240"/>
            <a:chExt cx="4269960" cy="782640"/>
          </a:xfrm>
        </p:grpSpPr>
        <p:sp>
          <p:nvSpPr>
            <p:cNvPr id="531" name="Line 32"/>
            <p:cNvSpPr/>
            <p:nvPr/>
          </p:nvSpPr>
          <p:spPr>
            <a:xfrm>
              <a:off x="374472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33"/>
            <p:cNvSpPr/>
            <p:nvPr/>
          </p:nvSpPr>
          <p:spPr>
            <a:xfrm>
              <a:off x="88380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1256400" y="3711960"/>
              <a:ext cx="21153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Is the composition unifor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5"/>
            <p:cNvSpPr/>
            <p:nvPr/>
          </p:nvSpPr>
          <p:spPr>
            <a:xfrm>
              <a:off x="88380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6"/>
            <p:cNvSpPr/>
            <p:nvPr/>
          </p:nvSpPr>
          <p:spPr>
            <a:xfrm>
              <a:off x="337176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37"/>
            <p:cNvSpPr/>
            <p:nvPr/>
          </p:nvSpPr>
          <p:spPr>
            <a:xfrm>
              <a:off x="3806640" y="3675240"/>
              <a:ext cx="6109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38"/>
            <p:cNvSpPr/>
            <p:nvPr/>
          </p:nvSpPr>
          <p:spPr>
            <a:xfrm>
              <a:off x="147600" y="3675240"/>
              <a:ext cx="871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39"/>
          <p:cNvGrpSpPr/>
          <p:nvPr/>
        </p:nvGrpSpPr>
        <p:grpSpPr>
          <a:xfrm>
            <a:off x="998640" y="5543640"/>
            <a:ext cx="4933440" cy="592200"/>
            <a:chOff x="998640" y="5543640"/>
            <a:chExt cx="4933440" cy="592200"/>
          </a:xfrm>
        </p:grpSpPr>
        <p:grpSp>
          <p:nvGrpSpPr>
            <p:cNvPr id="539" name="Group 40"/>
            <p:cNvGrpSpPr/>
            <p:nvPr/>
          </p:nvGrpSpPr>
          <p:grpSpPr>
            <a:xfrm>
              <a:off x="3138480" y="5543640"/>
              <a:ext cx="651960" cy="390240"/>
              <a:chOff x="3138480" y="5543640"/>
              <a:chExt cx="651960" cy="390240"/>
            </a:xfrm>
          </p:grpSpPr>
          <p:sp>
            <p:nvSpPr>
              <p:cNvPr id="540" name="Line 41"/>
              <p:cNvSpPr/>
              <p:nvPr/>
            </p:nvSpPr>
            <p:spPr>
              <a:xfrm>
                <a:off x="3138480" y="5933880"/>
                <a:ext cx="651960" cy="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2"/>
              <p:cNvSpPr/>
              <p:nvPr/>
            </p:nvSpPr>
            <p:spPr>
              <a:xfrm flipV="1">
                <a:off x="3465000" y="5543640"/>
                <a:ext cx="0" cy="39024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43"/>
            <p:cNvSpPr/>
            <p:nvPr/>
          </p:nvSpPr>
          <p:spPr>
            <a:xfrm>
              <a:off x="99864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Coll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44"/>
            <p:cNvSpPr/>
            <p:nvPr/>
          </p:nvSpPr>
          <p:spPr>
            <a:xfrm>
              <a:off x="381780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Susp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AutoShape 45">
            <a:hlinkClick r:id="rId2" action="ppaction://hlinksldjump"/>
          </p:cNvPr>
          <p:cNvSpPr/>
          <p:nvPr/>
        </p:nvSpPr>
        <p:spPr>
          <a:xfrm>
            <a:off x="5792760" y="3621240"/>
            <a:ext cx="2100240" cy="639720"/>
          </a:xfrm>
          <a:custGeom>
            <a:avLst/>
            <a:gdLst>
              <a:gd name="textAreaLeft" fmla="*/ 41400 w 2100240"/>
              <a:gd name="textAreaRight" fmla="*/ 2058840 w 21002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70886" h="21600">
                <a:moveTo>
                  <a:pt x="0" y="0"/>
                </a:moveTo>
                <a:lnTo>
                  <a:pt x="70886" y="0"/>
                </a:lnTo>
                <a:lnTo>
                  <a:pt x="70886" y="21600"/>
                </a:lnTo>
                <a:lnTo>
                  <a:pt x="0" y="21600"/>
                </a:lnTo>
                <a:close/>
              </a:path>
              <a:path fill="lightenLess" w="70886" h="21600">
                <a:moveTo>
                  <a:pt x="0" y="0"/>
                </a:moveTo>
                <a:lnTo>
                  <a:pt x="70886" y="0"/>
                </a:lnTo>
                <a:lnTo>
                  <a:pt x="69486" y="1400"/>
                </a:lnTo>
                <a:lnTo>
                  <a:pt x="1400" y="1400"/>
                </a:lnTo>
                <a:close/>
              </a:path>
              <a:path fill="darken" w="70886" h="21600">
                <a:moveTo>
                  <a:pt x="70886" y="0"/>
                </a:moveTo>
                <a:lnTo>
                  <a:pt x="70886" y="21600"/>
                </a:lnTo>
                <a:lnTo>
                  <a:pt x="69486" y="20200"/>
                </a:lnTo>
                <a:lnTo>
                  <a:pt x="69486" y="1400"/>
                </a:lnTo>
                <a:close/>
              </a:path>
              <a:path fill="darkenLess" w="70886" h="21600">
                <a:moveTo>
                  <a:pt x="7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86" y="20200"/>
                </a:lnTo>
                <a:close/>
              </a:path>
              <a:path fill="lighten" w="7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Divisions of Matter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ubstance: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definite or constant composition and distinct properti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mpounds or Elemen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ater, silver, ethanol, salt, carbon dioxide, Ne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Mixture: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Combination of 2 or more substances in that retain their distinct identities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omogeneous or Heterogeneou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ir, soft drinks, milk, ceme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dcterms:modified xsi:type="dcterms:W3CDTF">2010-08-22T21:21:16Z</dcterms:modified>
  <cp:revision>55</cp:revision>
  <dc:subject/>
  <dc:title>Introduction to Chemistry</dc:title>
</cp:coreProperties>
</file>